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B77B2-4ADD-4C09-9E13-64FEA15B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9C851-863F-44BC-A107-9D4E1DC6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621D3-5084-42B6-833D-D8306CC7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77F64-04FB-42E9-B7E4-FB207B03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8FA74-378D-4FEC-81DC-C3CBA3F9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0C13D-F33C-450F-93FD-6A4C90DF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EAF2E-17C3-41B9-BA27-A98D630E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AA983-4A83-400D-A16B-1ADD3AFD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7EC63-63C9-45F0-A9C0-9C465175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46B31-DA5D-4E76-BEA8-324521AA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02451-C49E-49B9-9148-73E12090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994DD-2430-4ABD-BA4A-8A2712EE7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imes New Roman"/>
              </a:rPr>
              <a:t>San Francisco</a:t>
            </a:r>
            <a:r>
              <a:rPr b="1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0199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78963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06668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B235-8528-4863-A970-D78F0005CC9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838080" y="2133720"/>
          <a:ext cx="6934320" cy="350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9343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437040" y="303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1840" y="4266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8560" y="434304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4440" y="2514240"/>
            <a:ext cx="119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imes New Roman"/>
              </a:rPr>
              <a:t>unmanaged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7360" y="12942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Prepared by Fried Augenbro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219320" y="1981080"/>
          <a:ext cx="2809800" cy="14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1981080"/>
                    <a:ext cx="2809800" cy="14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334120" y="4800600"/>
          <a:ext cx="1962000" cy="163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4120" y="4800600"/>
                    <a:ext cx="19620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33520" y="1293840"/>
            <a:ext cx="6705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1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is from a non-managed ‘upstream’ structural layout actor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the file describes an analysis model of a simple 2D frame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385440"/>
            <a:ext cx="7619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2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the result of three managed data transactions by Organization 1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import of File 1 with a STEP file im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load data with a CIS/2 Data Management Compliant (DMC) application SoftX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2 with managed data using the SoftX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9720" y="357840"/>
            <a:ext cx="769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352680" y="3352680"/>
          <a:ext cx="2028960" cy="138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52680" y="3352680"/>
                    <a:ext cx="2028960" cy="13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1286640"/>
            <a:ext cx="792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Tahoma"/>
              </a:rPr>
              <a:t>STEP File 3</a:t>
            </a: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 contains the result of three managed data transactions: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creation of new data: cross-sections of the two columns and the beam. This is done with the DMC application SoftY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modifications of the imported analysis model to allow the inclusion of the element cross sections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ahoma"/>
              </a:rPr>
              <a:t>export of STEP File 3 with managed data using the SoftY STEP file exporter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93640" y="417960"/>
            <a:ext cx="58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IS/2 Data Management - Case Tutor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00:48:48Z</dcterms:created>
  <dc:creator>Administrator</dc:creator>
  <dc:description/>
  <dc:language>en-US</dc:language>
  <cp:lastModifiedBy>Eastman</cp:lastModifiedBy>
  <dcterms:modified xsi:type="dcterms:W3CDTF">2001-10-31T03:41:38Z</dcterms:modified>
  <cp:revision>5</cp:revision>
  <dc:subject/>
  <dc:title>No Slide Title</dc:title>
</cp:coreProperties>
</file>